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3.png" ContentType="image/png"/>
  <Override PartName="/ppt/media/image16.gif" ContentType="image/gif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E4-30D1-40F5-A9E6-4D190036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966-6177-45F1-AAFA-333717A0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E3F-EB58-4FF2-8D0A-BAF0C2C2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F6A-AAE9-43CC-8338-BA80B023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09A-A224-44BD-8F98-97A1F99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C68-0B92-4F53-921C-67A89259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6C4-02FA-4312-BDAB-6451297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73CB-2EF9-498A-9958-AFA5C9B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AB0-E09E-4190-8998-5922D3B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27E-CA78-49B9-A0A5-97F31E4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51A-85B7-41B2-9390-5FB517C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589-57F8-4B03-8D0E-0E68B9B0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E4B-C68F-4082-A97B-09906D304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1523880" y="762120"/>
            <a:ext cx="586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ы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уральный мёд</a:t>
            </a:r>
            <a:r>
              <a:rPr b="1" lang="ru-RU" sz="5000" spc="-1" strike="noStrike">
                <a:solidFill>
                  <a:srgbClr val="b12d13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042920" y="2492280"/>
            <a:ext cx="779616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d0d0d"/>
                </a:solidFill>
                <a:latin typeface="Calibri"/>
                <a:ea typeface="Arial"/>
              </a:rPr>
              <a:t>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94240" indent="-348768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990000"/>
                </a:solidFill>
                <a:latin typeface="Calibri"/>
                <a:ea typeface="Arial"/>
              </a:rPr>
              <a:t>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48360" y="3357720"/>
            <a:ext cx="309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анова Варвар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А класса МБОУ КГО 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. руководитель: Тагакова Людмила Анатол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: Чертан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69040" y="-457920"/>
            <a:ext cx="3806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КГ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ая конференц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и первые открыт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ывод:</a:t>
            </a: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Моя гипотеза подтвердилас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пыты работают, можно при помощи них проверить качество мёда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а работа, надеюсь, заинтересует моих друзей, и они будут проверять мёд, купленный родителями. </a:t>
            </a:r>
            <a:br>
              <a:rPr sz="3600"/>
            </a:br>
            <a:br>
              <a:rPr sz="2800"/>
            </a:b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6156360" y="31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dis2"/>
          <p:cNvPicPr/>
          <p:nvPr/>
        </p:nvPicPr>
        <p:blipFill>
          <a:blip r:embed="rId2"/>
          <a:stretch/>
        </p:blipFill>
        <p:spPr>
          <a:xfrm>
            <a:off x="179280" y="4724280"/>
            <a:ext cx="1646280" cy="19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и научить выбирать настоящий натуральный мёд.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Выяснить, как  живут и работают пчел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ыяснить строение пчел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Выяснить процесс получения ме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роизвести опыты с медом</a:t>
            </a: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чела - великая труженица, приносящая неоценимую пользу и здоровье людям, если я проведу исследование, изучу литературу, то узнаю всё о пчёлах и мёде, смогу дать полезные советы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  продукт пчеловодства -  мёд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жизнедеятельность пчё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ои исследования расширят мой кругозо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омогут узнать всё о пчелах и продуктах пчеловод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могу дать практические советы, как купить настоящий мёд, а не поддел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ообщество состоит из единственной матки, нескольких десятков тысяч рабочих пчёл и нескольких сотен трутне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24000" y="4149720"/>
            <a:ext cx="194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троение пче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pchelinaya-semya-580x251.jpg"/>
          <p:cNvPicPr/>
          <p:nvPr/>
        </p:nvPicPr>
        <p:blipFill>
          <a:blip r:embed="rId1"/>
          <a:stretch/>
        </p:blipFill>
        <p:spPr>
          <a:xfrm>
            <a:off x="2124000" y="1459080"/>
            <a:ext cx="5112000" cy="221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111\Desktop\картинки мёд\Smailik_pchelka_letit.gif"/>
          <p:cNvPicPr/>
          <p:nvPr/>
        </p:nvPicPr>
        <p:blipFill>
          <a:blip r:embed="rId2"/>
          <a:stretch/>
        </p:blipFill>
        <p:spPr>
          <a:xfrm>
            <a:off x="8337600" y="5877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111\Desktop\картинки мёд\Smailik_pchelka_letit.gif"/>
          <p:cNvPicPr/>
          <p:nvPr/>
        </p:nvPicPr>
        <p:blipFill>
          <a:blip r:embed="rId3"/>
          <a:stretch/>
        </p:blipFill>
        <p:spPr>
          <a:xfrm>
            <a:off x="2340000" y="5950080"/>
            <a:ext cx="806400" cy="707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111\Desktop\картинки мёд\Smailik_pchelka_letit.gif"/>
          <p:cNvPicPr/>
          <p:nvPr/>
        </p:nvPicPr>
        <p:blipFill>
          <a:blip r:embed="rId4"/>
          <a:stretch/>
        </p:blipFill>
        <p:spPr>
          <a:xfrm>
            <a:off x="250920" y="981000"/>
            <a:ext cx="806400" cy="7081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"/>
          <p:cNvPicPr/>
          <p:nvPr/>
        </p:nvPicPr>
        <p:blipFill>
          <a:blip r:embed="rId5"/>
          <a:stretch/>
        </p:blipFill>
        <p:spPr>
          <a:xfrm>
            <a:off x="4552920" y="3952800"/>
            <a:ext cx="354168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8360" y="907560"/>
            <a:ext cx="8136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бочные продукты мёда</a:t>
            </a:r>
            <a:r>
              <a:rPr b="0" i="1" lang="ru-RU" sz="2400" spc="-1" strike="noStrike">
                <a:solidFill>
                  <a:srgbClr val="002060"/>
                </a:solidFill>
                <a:latin typeface="Arial Blac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процессе производства мёда возникает четыре основных побочных продукт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оск, пыльца, маточное молочко и прополи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7" descr="C:\Users\111\Desktop\Downloads\293219 (1).jpg"/>
          <p:cNvPicPr/>
          <p:nvPr/>
        </p:nvPicPr>
        <p:blipFill>
          <a:blip r:embed="rId2"/>
          <a:stretch/>
        </p:blipFill>
        <p:spPr>
          <a:xfrm>
            <a:off x="395280" y="2997360"/>
            <a:ext cx="1944720" cy="1439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11\Desktop\картинки мёд\1481631_6rsy2r.jpeg"/>
          <p:cNvPicPr/>
          <p:nvPr/>
        </p:nvPicPr>
        <p:blipFill>
          <a:blip r:embed="rId3"/>
          <a:stretch/>
        </p:blipFill>
        <p:spPr>
          <a:xfrm>
            <a:off x="1835280" y="4653000"/>
            <a:ext cx="2016000" cy="1770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111\Desktop\картинки мёд\1364393257_1381492.png"/>
          <p:cNvPicPr/>
          <p:nvPr/>
        </p:nvPicPr>
        <p:blipFill>
          <a:blip r:embed="rId4"/>
          <a:stretch/>
        </p:blipFill>
        <p:spPr>
          <a:xfrm>
            <a:off x="6588000" y="4437000"/>
            <a:ext cx="210348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111\Desktop\картинки мёд\800px-Weiselzellen_68a-wiki.jpg"/>
          <p:cNvPicPr/>
          <p:nvPr/>
        </p:nvPicPr>
        <p:blipFill>
          <a:blip r:embed="rId5"/>
          <a:stretch/>
        </p:blipFill>
        <p:spPr>
          <a:xfrm>
            <a:off x="4286160" y="2854440"/>
            <a:ext cx="23767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пыты с мёд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700000" y="1557000"/>
            <a:ext cx="60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стоящий мёд не скатывается с ложки слишком быстро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удет стекать непрерывной струйкой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дняя капля тянется к ложк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м мёде чёрствый хлеб не размок, а остался чёрств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700360" y="3141720"/>
            <a:ext cx="60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Определение воды в мё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685800" y="1508040"/>
            <a:ext cx="1798560" cy="21481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3"/>
          <a:stretch/>
        </p:blipFill>
        <p:spPr>
          <a:xfrm>
            <a:off x="685800" y="3954600"/>
            <a:ext cx="1798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Рисунок3.jpg"/>
          <p:cNvPicPr/>
          <p:nvPr/>
        </p:nvPicPr>
        <p:blipFill>
          <a:blip r:embed="rId1"/>
          <a:stretch/>
        </p:blipFill>
        <p:spPr>
          <a:xfrm>
            <a:off x="-10800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3640" y="549360"/>
            <a:ext cx="504036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3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мазать мед на бумажке, и на медовой полоске нарисовать что-нибудь химическим карандаш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рисунок станет синим, значит мед настоящи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пыт 4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такан с медовой водой капнуть несколько капель й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медовая вода станет синей – мед не настоящ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8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376360" cy="28684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539640" y="663480"/>
            <a:ext cx="2413080" cy="24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пыт 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Биологическая память мё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м тарелку, положим ложку мёда, заливаем водой чуть больше чем мёд. Слегка болтаем по кругу и увидим появление ячеек на поверхности мё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ризнак натурального мё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582560" y="4052880"/>
            <a:ext cx="1776600" cy="2109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4859280" y="4052880"/>
            <a:ext cx="1800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7:10:04Z</dcterms:created>
  <dc:creator>111</dc:creator>
  <dc:description/>
  <dc:language>en-US</dc:language>
  <cp:lastModifiedBy>КАБ 10Н</cp:lastModifiedBy>
  <dcterms:modified xsi:type="dcterms:W3CDTF">2024-02-07T08:32:08Z</dcterms:modified>
  <cp:revision>137</cp:revision>
  <dc:subject/>
  <dc:title>Слайд 1</dc:title>
</cp:coreProperties>
</file>