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0CA7B-BD62-4141-8755-2ED884FFD8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FACBE-C639-4793-A29A-E2AC3908AB9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066DC-5667-452B-97B8-7B5D47843B5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CC621-5CF6-4130-98F8-D2DEA16A59F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0D883-99C6-45EF-8052-1EB3D7132C4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93FBD-638A-4603-830B-579682FC0E1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03B82-CDB6-4CF8-955D-712E38432A5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353D3-78CB-4D37-8812-F82A4D2DAB0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F68CB-13BC-4E5C-9367-B984CC16A03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65F1F-E236-4E71-9F03-76E10569A4B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107C3-045A-45AF-AA74-EC234F93D2D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03548-0C53-4CBE-85BD-E082EE70D56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6C246-918B-4598-99AC-0338702CAA7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20C8F-8565-4781-B461-6AFA9C0909F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98FD3-9566-4F0F-8335-C8C7400CB1C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C6E29-CEE7-4397-8BAA-E9BA89394FA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5BB-6C1A-4ABE-BD74-ACF23196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2EE7-A0BA-4F3D-A951-F12C94A0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10C-4CE5-4072-9A3A-4628B57E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DA3-D97B-4B9B-8841-82A2CE1A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8A84-1121-4AA7-B33E-F61366D9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F765-765F-4041-9F80-C50B9EF9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EDA2-4B6A-433D-884A-451CF01E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4C50-88DA-405B-8B97-D41F7CF3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56BB-E4AB-4EA1-AD0E-2FF3A5A7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6AE6-154E-4B3D-89EB-9BEDBF7E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C238-448F-4C44-A2E5-AB68ACCA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186-BEF5-4F83-8E22-52E4DD73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3B2B-3C95-4099-BF14-736E19EE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BDB7-8DD9-4EFE-8A6A-7D7B51F7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E3A3-BFED-4DD3-BBAB-CED4DD0D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73D6-DC3C-49DA-BAE0-129B91FE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AB91-82BE-4C45-B6E2-D6F803C0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423-D897-4FAC-BF97-1C07815B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CD5-5608-4CD0-ADF4-BAEA3094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F01-07EB-4D95-9571-C5483980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C9D-B5BC-4B1C-A188-0D85D889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46B-6469-449F-A3FB-DAD4AEF9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CF17-D964-4CE9-ABEC-E7AE6DFC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0DF-0814-4CF0-8B75-CCA5A3F6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H="1" flipV="1">
            <a:off x="0" y="4500720"/>
            <a:ext cx="10080720" cy="1170000"/>
          </a:xfrm>
          <a:prstGeom prst="flowChartDocumen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1618920"/>
            <a:ext cx="89946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2879280"/>
            <a:ext cx="9355320" cy="1614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49000"/>
          </a:bodyPr>
          <a:p>
            <a:pPr marL="16776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C042A-C3C6-4478-B4D9-4B88291498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0"/>
            <a:ext cx="10077480" cy="72072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40" y="5040360"/>
            <a:ext cx="10077480" cy="63180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124FA-18AA-404D-9A38-98C3928C0E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1618920"/>
            <a:ext cx="77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d4100"/>
                </a:solidFill>
                <a:latin typeface="Times New Roman"/>
              </a:rPr>
              <a:t>«Флорариум — мини — сад!»</a:t>
            </a:r>
            <a:endParaRPr b="0" lang="en-US" sz="40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199280" y="3419640"/>
            <a:ext cx="27003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83000"/>
          </a:bodyPr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3 «В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а Вар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6EEB1-A3FB-4172-BCAB-9BC96662B15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8E00C-E46E-447B-BFEB-B4AAB911C6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0" y="0"/>
            <a:ext cx="1008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Примерно 1 см. заполнила слоем земли, утрамбовала руками. При помощи толстой кисточки смахнула пыль и частички земли со стекол ем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82480" y="720720"/>
            <a:ext cx="2478240" cy="431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687840" y="720720"/>
            <a:ext cx="2611440" cy="431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7020000" y="720720"/>
            <a:ext cx="25192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C1983-09B9-43F4-8167-54ADFEFFE21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D4280-2A44-4D43-869B-589756A89C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539640" y="179280"/>
            <a:ext cx="918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Затем поочередно засыпала в емкость песок белого и голубого цве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157880" y="720720"/>
            <a:ext cx="2562480" cy="431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2578320" cy="431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3780000" y="720720"/>
            <a:ext cx="2700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57B68-DF48-4E7F-A27B-795DCC6828C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D2217-DC63-4397-A7F3-CCF4412F23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0" y="0"/>
            <a:ext cx="100807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NSimSun"/>
              </a:rPr>
              <a:t>Следующим этапом, я заполнила наш мини — сад остатками земли, оставив, примерно 2 см. от края емкости, чтобы дополнить украшением нашу композицию. Проделала небольшое отверстие ложкой в земле для нашего растения. Стряхнула лишнюю землю с корня кактуса и аккуратно посадила в заготовленное отверст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6360" y="720720"/>
            <a:ext cx="2303640" cy="431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51928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504036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7574040" y="720720"/>
            <a:ext cx="25066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05E92-0C73-4ED5-9FCC-08E82BC504B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129F8-756F-428F-A808-C8396607BF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0" y="0"/>
            <a:ext cx="10080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Далее поверхность земли еще раз присыпала декоративным цветным песк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выложила ракушки, мох. Таким образом, я создавала берег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78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702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539640" y="720720"/>
            <a:ext cx="25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A9E06-F601-4267-A17F-7C32F696409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B07A9-BE6E-4583-B0F6-927539B80D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0" y="0"/>
            <a:ext cx="1008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меня получился свой собственный оригинальный кусочек живой природ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не кажется, что каждый, кто увидит этот растительный мир, непременно захочет сделать такое же чудо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419640" y="720720"/>
            <a:ext cx="34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880000" cy="431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199280" y="720720"/>
            <a:ext cx="27003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CAAA6-211F-4AA8-BC7D-FB60202B1FD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9EE2C-C5C8-4FE5-BF71-276B5FEB11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79280" y="539640"/>
            <a:ext cx="95392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своей работе я хотела создать максимально комфортные условия для растения и красивую композицию, для того чтобы украсить интерьер моей комнаты. В итоге получился кусочек морского берег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Глядя на свой мини - сад, я вспоминаю семейное путешеств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Цель проекта достигнута. Гипотеза доказа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домашних условиях можно создать прекрасный мини — са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пасибо за внимание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42958-1901-4ECC-AC3A-52472E254C4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F1EE1-BB02-4C65-93AD-9D7942A550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79280" y="0"/>
            <a:ext cx="5580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rmAutofit/>
          </a:bodyPr>
          <a:p>
            <a:pPr>
              <a:lnSpc>
                <a:spcPct val="93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ктуаль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Каждый из нас любит цветы. Многие выращивают их дома. Зачастую, цветы требуют тщательный уход. В настоящее время люди создают флорариумы, чтобы посадить растение и при этом не прилагать больших усилий для ухода за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 (мини - сад) – композиция из маленьких растений, камней, песка, искусственного декора, помещенной в прозрачную емкость (из стекла или пласт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ход и наблюдение за мини - садом интересен и взрослым, и детям. При его создании можно проявить неограниченную фантазию. Именно поэтому меня заинтересовала эта те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759280" y="736560"/>
            <a:ext cx="431964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20C37-7889-456C-811B-9E35CB950BC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2D343-95B8-4C92-ABCC-57FE7F9BAA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720720" y="720720"/>
            <a:ext cx="899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е флорариума и освоение техники создания композиций для мини - са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информацию по теме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ить особенности создания композиций для мини - сад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ть флорариум «В гостях у моря!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и-сад в домашних услови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лорари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тый флорариум «В гостях у моря!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омашних условиях возможно создать мини-с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, наблюдение, интервью, экспери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8DE07-EE7C-479E-8EE3-12DDD3BC083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87213-AB91-4982-A353-99492797BD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179280" y="360360"/>
            <a:ext cx="97203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«Возможно ли создать мини — сад в домашних условиях?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105680" y="725400"/>
            <a:ext cx="2427120" cy="431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59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8DBB0-C108-4F18-B818-127FF339E9C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D538F-4504-44D6-9CA1-EB961A04A9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79280" y="900000"/>
            <a:ext cx="9539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Флорариум — это прозрачная ёмкость из стекла или пластика закрытого, частично закрытого или открытого типа, в которую помещают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Можно создавать в стеклянном сосуде настоящие природные зоны в миниатюре: горы, пустыни, тропики, море или частичку дремучего ле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По сути, флорариум — это тот же аквариум, но, вместо воды и рыбок, в него заполняют камни, песок, различные элементы для декора и растения маленького разм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7E25A-D30D-4FDD-A086-817F5106024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4ABF0-7C48-4ABB-83E5-E297A35E6C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79280" y="720720"/>
            <a:ext cx="97203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just"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ы быв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мкость плотно закрывается крышкой или двер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их есть отверстие в верхней части или сб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еще называют мини-флорариумами. Они отличаются простот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мпозиции, небольшим объемом емкости и количеством растений (1-3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имитируют кусочек леса, пустыни, гор, джунглей, сада, мор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вес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подвешивают с помощью крючков и верев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напоминают «живые» картин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оль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Они размещаются на горизонтальной поверхности (на столе, тумбочке, подоконнике, полк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оль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и обычно декорируют общественные места: рестораны, торговые центры, салоны, о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648DF-0D64-4DB7-8695-B22B165A8F5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7D1B1-4BD3-4DA4-8FC1-A63C44C20F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79280" y="900000"/>
            <a:ext cx="972036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амостоятельного изготовления флорариума Вам понадобится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розрачная емкость (стеклянная или пластикова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зем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ес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аст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декоративные элементы. Это могут быть мхи, цветное стекло, камни, ракушки, различные фигурки, природные материалы (веточки, сухоцвет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698D3-FAB2-4475-B360-66BE37021C4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7B208-BB5E-48BC-9D01-91BCC9B830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79280" y="720720"/>
            <a:ext cx="972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оветы по уходу за мини — садом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оставляйте флорариум под прямыми солнечными луч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егулярно очищайте растения от пожухлых листье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перебарщивайте с поливом, можно опрыскивать растение при помощи пульверизат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очву нужно менять каждые 2-3 го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если растение чрезмерно подросло нужно его обнови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F9482-2B87-47A2-BF6C-E3020069E3D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56DC3-24C2-4F24-84E3-823A714987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0" y="6480"/>
            <a:ext cx="10080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оздания флорариума «В гостях у моря!» я выбрала прозрачную стеклянную емкость, геометрической форм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27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219640" y="720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26T13:05:50Z</dcterms:created>
  <dc:creator/>
  <dc:description/>
  <dc:language>en-US</dc:language>
  <cp:lastModifiedBy>Админ</cp:lastModifiedBy>
  <dcterms:modified xsi:type="dcterms:W3CDTF">2024-01-30T07:51:48Z</dcterms:modified>
  <cp:revision>13</cp:revision>
  <dc:subject/>
  <dc:title>Blue Curve</dc:title>
</cp:coreProperties>
</file>