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066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dd4100"/>
                </a:solidFill>
                <a:latin typeface="Arial"/>
              </a:rPr>
              <a:t>Click to move the slide</a:t>
            </a:r>
            <a:endParaRPr b="0" lang="en-US" sz="3300" spc="-1" strike="noStrike">
              <a:solidFill>
                <a:srgbClr val="dd41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43B664-E6F1-4307-98E9-E7EDA9FD205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375080-828F-4376-A284-03D4D6CE335E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FF4769-8E55-4469-974E-41118E48D4BC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0080" cy="40053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E5E27E-CF72-4A9D-B48B-160872E27A3E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0080" cy="40053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00226B-7604-49C7-BA16-7276CED53E75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0080" cy="40053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A11B15-12CE-490A-9585-0BEE9C621926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0080" cy="40053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695D87-5AA3-482F-80F5-11CB9C92EAB2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0080" cy="40053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4C1075-92A2-442B-8B42-26B614BD0CC9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0080" cy="40053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84ACEE-6CA7-4439-911D-A09B93992CB7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E93009-7569-433F-B63F-ED3ADE189DB1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85853C-C3A1-4FC9-8BB1-FE89E2CBA18E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1D4B67-F9E9-4A90-800F-DFEBEFB32AFE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50EE30-4E27-476C-9EB2-2DEE6EF04A11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F5D300-B0DA-4108-8019-BACA91F2816E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0080" cy="40053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738610-46F6-44C7-AB02-81388BC023FA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0080" cy="40053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4AFDD6-4FE6-4D06-8E8F-DD89657C4093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0080" cy="40053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AC61-ACDE-47F3-B1DB-091E3D7FE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93553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60000" y="2958120"/>
            <a:ext cx="93553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4585-A4F7-4354-AA2C-CB47D3E95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3760" y="107964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60000" y="295812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53760" y="295812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6A3E-E71D-4805-BDCC-36B31C153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30121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22960" y="1079640"/>
            <a:ext cx="30121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86280" y="1079640"/>
            <a:ext cx="30121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60000" y="2958120"/>
            <a:ext cx="30121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22960" y="2958120"/>
            <a:ext cx="30121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86280" y="2958120"/>
            <a:ext cx="30121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1DB2-AF9C-4C22-8595-4E934F61D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5B911-B3E2-4D4F-AACD-4D891109A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60000" y="1079640"/>
            <a:ext cx="935532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D9BCA-5088-42A5-B9BA-B860BEA51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935532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272E3-F02C-452C-9853-FC185AF6C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456516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53760" y="1079640"/>
            <a:ext cx="456516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89C9D-3495-4DFD-B4A3-19D3E8EF0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1B268-A88F-471C-8E56-AE8FB5FCB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60000" y="179280"/>
            <a:ext cx="935532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5DC1B-B80F-48AD-82C8-8E11DABAF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3760" y="1079640"/>
            <a:ext cx="456516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60000" y="295812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1190B-D94C-4C97-84C7-1875EFFD8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60000" y="1079640"/>
            <a:ext cx="935532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0A43-7E98-4F46-9FCA-EDD26C0B0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456516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3760" y="107964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53760" y="295812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650A4-EABC-4A2A-9557-34EF39186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53760" y="107964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60000" y="2958120"/>
            <a:ext cx="93553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A8628-66C3-4C13-AEAB-8985829D6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93553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60000" y="2958120"/>
            <a:ext cx="93553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B6B4A-2AB0-4A35-AD4D-49D141421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3760" y="107964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60000" y="295812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53760" y="295812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230A6-1D55-4B95-8DF1-6D4DC7A14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30121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22960" y="1079640"/>
            <a:ext cx="30121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86280" y="1079640"/>
            <a:ext cx="30121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60000" y="2958120"/>
            <a:ext cx="30121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22960" y="2958120"/>
            <a:ext cx="30121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686280" y="2958120"/>
            <a:ext cx="30121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FDFC9-F40C-4524-8467-120B54871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935532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051B-EF7B-4250-9E82-9B40F85D4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456516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53760" y="1079640"/>
            <a:ext cx="456516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BE8A-F00A-4A1D-B5A4-C4E9D95E8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428A-4052-481E-8267-F1EB572DE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0000" y="179280"/>
            <a:ext cx="935532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D58D-8F60-4CE0-8E4F-16B105001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3760" y="1079640"/>
            <a:ext cx="456516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60000" y="295812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00F0-D2F3-46D0-924E-243679D98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456516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3760" y="107964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53760" y="295812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560E-F4F3-43A7-839C-F6C437487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3760" y="107964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60000" y="2958120"/>
            <a:ext cx="93553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6323-6C4E-447F-834F-2D84360A9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 flipH="1" flipV="1">
            <a:off x="0" y="4500720"/>
            <a:ext cx="10080720" cy="1170000"/>
          </a:xfrm>
          <a:prstGeom prst="flowChartDocument">
            <a:avLst/>
          </a:prstGeom>
          <a:gradFill rotWithShape="0">
            <a:gsLst>
              <a:gs pos="0">
                <a:srgbClr val="009bdd"/>
              </a:gs>
              <a:gs pos="100000">
                <a:srgbClr val="77caee"/>
              </a:gs>
            </a:gsLst>
            <a:lin ang="0"/>
          </a:gradFill>
          <a:ln w="0">
            <a:noFill/>
          </a:ln>
          <a:effectLst>
            <a:outerShdw dist="10800" dir="5400000" blurRad="0" rotWithShape="0">
              <a:srgbClr val="009b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1618920"/>
            <a:ext cx="8994600" cy="10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dd41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dd41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60000" y="2879280"/>
            <a:ext cx="9355320" cy="1614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49000"/>
          </a:bodyPr>
          <a:p>
            <a:pPr marL="16776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  <a:p>
            <a:pPr lvl="1" marL="167760" indent="-16776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  <a:p>
            <a:pPr lvl="2" marL="167760" indent="-16776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  <a:p>
            <a:pPr lvl="3" marL="167760" indent="-16776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  <a:p>
            <a:pPr lvl="4" marL="167760" indent="-16776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  <a:p>
            <a:pPr lvl="5" marL="167760" indent="-16776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  <a:p>
            <a:pPr lvl="6" marL="167760" indent="-16776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6000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419280" y="5219640"/>
            <a:ext cx="3235320" cy="3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38000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8AE89F-8C62-4C1D-A8E5-B3649936282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"/>
          <p:cNvSpPr/>
          <p:nvPr/>
        </p:nvSpPr>
        <p:spPr>
          <a:xfrm>
            <a:off x="0" y="0"/>
            <a:ext cx="10077480" cy="720720"/>
          </a:xfrm>
          <a:prstGeom prst="rect">
            <a:avLst/>
          </a:prstGeom>
          <a:gradFill rotWithShape="0">
            <a:gsLst>
              <a:gs pos="0">
                <a:srgbClr val="009bdd"/>
              </a:gs>
              <a:gs pos="100000">
                <a:srgbClr val="77caee"/>
              </a:gs>
            </a:gsLst>
            <a:lin ang="0"/>
          </a:gradFill>
          <a:ln w="0">
            <a:noFill/>
          </a:ln>
          <a:effectLst>
            <a:outerShdw dist="10800" dir="5400000" blurRad="0" rotWithShape="0">
              <a:srgbClr val="009b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ectangle 2"/>
          <p:cNvSpPr/>
          <p:nvPr/>
        </p:nvSpPr>
        <p:spPr>
          <a:xfrm>
            <a:off x="3240" y="5040360"/>
            <a:ext cx="10077480" cy="631800"/>
          </a:xfrm>
          <a:prstGeom prst="rect">
            <a:avLst/>
          </a:prstGeom>
          <a:gradFill rotWithShape="0">
            <a:gsLst>
              <a:gs pos="0">
                <a:srgbClr val="009bdd"/>
              </a:gs>
              <a:gs pos="100000">
                <a:srgbClr val="77caee"/>
              </a:gs>
            </a:gsLst>
            <a:lin ang="0"/>
          </a:gradFill>
          <a:ln w="0">
            <a:noFill/>
          </a:ln>
          <a:effectLst>
            <a:outerShdw dist="10800" dir="5400000" blurRad="0" rotWithShape="0">
              <a:srgbClr val="009b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60000" y="1079640"/>
            <a:ext cx="935532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6000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419280" y="5219640"/>
            <a:ext cx="3235320" cy="3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38000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DA9090-F05C-45FA-8193-9208EA22358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0360" y="1618920"/>
            <a:ext cx="77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dd4100"/>
                </a:solidFill>
                <a:latin typeface="Times New Roman"/>
              </a:rPr>
              <a:t>«Флорариум — мини — сад!»</a:t>
            </a:r>
            <a:endParaRPr b="0" lang="en-US" sz="4000" spc="-1" strike="noStrike">
              <a:solidFill>
                <a:srgbClr val="dd4100"/>
              </a:solidFill>
              <a:latin typeface="Arial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7199280" y="3419640"/>
            <a:ext cx="2700360" cy="10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 fontScale="83000"/>
          </a:bodyPr>
          <a:p>
            <a:pPr>
              <a:lnSpc>
                <a:spcPct val="93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ла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ница 3 «В» кла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трова Варва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6C38F8-0650-4C38-B980-44EEE79852E4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91D2DA-8BCA-44DE-9342-0CD16D55E4F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1"/>
          <p:cNvSpPr/>
          <p:nvPr/>
        </p:nvSpPr>
        <p:spPr>
          <a:xfrm>
            <a:off x="0" y="0"/>
            <a:ext cx="1008072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NSimSun"/>
              </a:rPr>
              <a:t>Примерно 1 см. заполнила слоем земли, утрамбовала руками. При помощи толстой кисточки смахнула пыль и частички земли со стекол емк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582480" y="720720"/>
            <a:ext cx="2478240" cy="43196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"/>
          <p:cNvPicPr/>
          <p:nvPr/>
        </p:nvPicPr>
        <p:blipFill>
          <a:blip r:embed="rId2"/>
          <a:stretch/>
        </p:blipFill>
        <p:spPr>
          <a:xfrm>
            <a:off x="3687840" y="720720"/>
            <a:ext cx="2611440" cy="4319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3"/>
          <a:stretch/>
        </p:blipFill>
        <p:spPr>
          <a:xfrm>
            <a:off x="7020000" y="720720"/>
            <a:ext cx="2519280" cy="428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3FBA6C-A2EA-429F-98B9-F3F8705B9851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9CD7AE-AB4F-4353-B9BB-91220982405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1"/>
          <p:cNvSpPr/>
          <p:nvPr/>
        </p:nvSpPr>
        <p:spPr>
          <a:xfrm>
            <a:off x="539640" y="179280"/>
            <a:ext cx="91807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NSimSun"/>
              </a:rPr>
              <a:t>Затем поочередно засыпала в емкость песок белого и голубого цвет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7157880" y="720720"/>
            <a:ext cx="2562480" cy="4319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"/>
          <p:cNvPicPr/>
          <p:nvPr/>
        </p:nvPicPr>
        <p:blipFill>
          <a:blip r:embed="rId2"/>
          <a:stretch/>
        </p:blipFill>
        <p:spPr>
          <a:xfrm>
            <a:off x="539640" y="720720"/>
            <a:ext cx="2578320" cy="4319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3"/>
          <a:stretch/>
        </p:blipFill>
        <p:spPr>
          <a:xfrm>
            <a:off x="3780000" y="720720"/>
            <a:ext cx="270000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D410DE-287E-4FB5-9CF7-6F0494F6DE00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E77AE5-452C-4F38-9528-E0748014669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"/>
          <p:cNvSpPr/>
          <p:nvPr/>
        </p:nvSpPr>
        <p:spPr>
          <a:xfrm>
            <a:off x="0" y="0"/>
            <a:ext cx="1008072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9000"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NSimSun"/>
              </a:rPr>
              <a:t>Следующим этапом, я заполнила наш мини — сад остатками земли, оставив, примерно 2 см. от края емкости, чтобы дополнить украшением нашу композицию. Проделала небольшое отверстие ложкой в земле для нашего растения. Стряхнула лишнюю землю с корня кактуса и аккуратно посадила в заготовленное отверсти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36360" y="720720"/>
            <a:ext cx="2303640" cy="4319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"/>
          <p:cNvPicPr/>
          <p:nvPr/>
        </p:nvPicPr>
        <p:blipFill>
          <a:blip r:embed="rId2"/>
          <a:stretch/>
        </p:blipFill>
        <p:spPr>
          <a:xfrm>
            <a:off x="2519280" y="720720"/>
            <a:ext cx="2340000" cy="4319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"/>
          <p:cNvPicPr/>
          <p:nvPr/>
        </p:nvPicPr>
        <p:blipFill>
          <a:blip r:embed="rId3"/>
          <a:stretch/>
        </p:blipFill>
        <p:spPr>
          <a:xfrm>
            <a:off x="5040360" y="720720"/>
            <a:ext cx="2340000" cy="43196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"/>
          <p:cNvPicPr/>
          <p:nvPr/>
        </p:nvPicPr>
        <p:blipFill>
          <a:blip r:embed="rId4"/>
          <a:stretch/>
        </p:blipFill>
        <p:spPr>
          <a:xfrm>
            <a:off x="7574040" y="720720"/>
            <a:ext cx="250668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D801FD-C7FF-4A06-BE83-D282DD53DA09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7C8175-F2AA-484F-B022-3E50C2D44F5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1"/>
          <p:cNvSpPr/>
          <p:nvPr/>
        </p:nvSpPr>
        <p:spPr>
          <a:xfrm>
            <a:off x="0" y="0"/>
            <a:ext cx="1008072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NSimSun"/>
              </a:rPr>
              <a:t>Далее поверхность земли еще раз присыпала декоративным цветным песком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NSimSun"/>
              </a:rPr>
              <a:t>выложила ракушки, мох. Таким образом, я создавала берег мор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3780000" y="720720"/>
            <a:ext cx="2519280" cy="4319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"/>
          <p:cNvPicPr/>
          <p:nvPr/>
        </p:nvPicPr>
        <p:blipFill>
          <a:blip r:embed="rId2"/>
          <a:stretch/>
        </p:blipFill>
        <p:spPr>
          <a:xfrm>
            <a:off x="7020000" y="720720"/>
            <a:ext cx="2519280" cy="4319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"/>
          <p:cNvPicPr/>
          <p:nvPr/>
        </p:nvPicPr>
        <p:blipFill>
          <a:blip r:embed="rId3"/>
          <a:stretch/>
        </p:blipFill>
        <p:spPr>
          <a:xfrm>
            <a:off x="539640" y="720720"/>
            <a:ext cx="251964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211BF2-9C9F-410E-9F6E-5B7A83D26761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3567D9-5BBD-4E48-BD12-22CCB0D1E1C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1"/>
          <p:cNvSpPr/>
          <p:nvPr/>
        </p:nvSpPr>
        <p:spPr>
          <a:xfrm>
            <a:off x="0" y="0"/>
            <a:ext cx="1008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 меня получился свой собственный оригинальный кусочек живой природы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не кажется, что каждый, кто увидит этот растительный мир, непременно захочет сделать такое же чудо!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3419640" y="720720"/>
            <a:ext cx="3419280" cy="4319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"/>
          <p:cNvPicPr/>
          <p:nvPr/>
        </p:nvPicPr>
        <p:blipFill>
          <a:blip r:embed="rId2"/>
          <a:stretch/>
        </p:blipFill>
        <p:spPr>
          <a:xfrm>
            <a:off x="179280" y="720720"/>
            <a:ext cx="2880000" cy="4319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"/>
          <p:cNvPicPr/>
          <p:nvPr/>
        </p:nvPicPr>
        <p:blipFill>
          <a:blip r:embed="rId3"/>
          <a:stretch/>
        </p:blipFill>
        <p:spPr>
          <a:xfrm>
            <a:off x="7199280" y="720720"/>
            <a:ext cx="270036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40C90F-66DC-4661-97AE-EB4AC8E9C89C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FC8287-E8EE-47EE-A42D-E6215677147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179280" y="539640"/>
            <a:ext cx="9539280" cy="47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just">
              <a:lnSpc>
                <a:spcPct val="150000"/>
              </a:lnSpc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В своей работе я хотела создать максимально комфортные условия для растения и красивую композицию, для того чтобы украсить интерьер моей комнаты. В итоге получился кусочек морского берега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Глядя на свой мини - сад, я вспоминаю семейное путешествие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Цель проекта достигнута. Гипотеза доказана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В домашних условиях можно создать прекрасный мини — сад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Спасибо за внимание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335CA0-425F-4DCC-A35C-D1988EEF9FC2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B40E28-42C2-43A6-BC76-4F2B0DE46CA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1"/>
          <p:cNvSpPr/>
          <p:nvPr/>
        </p:nvSpPr>
        <p:spPr>
          <a:xfrm>
            <a:off x="179280" y="0"/>
            <a:ext cx="5580000" cy="52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640" bIns="45000" anchor="t">
            <a:normAutofit/>
          </a:bodyPr>
          <a:p>
            <a:pPr>
              <a:lnSpc>
                <a:spcPct val="93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ктуальность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NSimSu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NSimSu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NSimSun"/>
              </a:rPr>
              <a:t>Каждый из нас любит цветы. Многие выращивают их дома. Зачастую, цветы требуют тщательный уход. В настоящее время люди создают флорариумы, чтобы посадить растение и при этом не прилагать больших усилий для ухода за ни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лорариум (мини - сад) – композиция из маленьких растений, камней, песка, искусственного декора, помещенной в прозрачную емкость (из стекла или пластика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ход и наблюдение за мини - садом интересен и взрослым, и детям. При его создании можно проявить неограниченную фантазию. Именно поэтому меня заинтересовала эта тем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5759280" y="736560"/>
            <a:ext cx="4319640" cy="430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03D47B-D4EB-436B-AD28-7900AF000832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24E666-2E20-4679-8D1A-F362A0E4AD0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"/>
          <p:cNvSpPr/>
          <p:nvPr/>
        </p:nvSpPr>
        <p:spPr>
          <a:xfrm>
            <a:off x="720720" y="720720"/>
            <a:ext cx="899964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здание флорариума и освоение техники создания композиций для мини - сад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Изучить информацию по теме исследов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Изучить особенности создания композиций для мини - сада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оздать флорариум «В гостях у моря!»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 исследования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ини-сад в домашних условия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 исследования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лорариу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ный продукт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крытый флорариум «В гостях у моря!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отеза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домашних условиях возможно создать мини-са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исследования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литературы, наблюдение, интервью, эксперимен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692F12-AB2A-47DC-B77C-19C90DD3705B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A94024-8762-4035-AF8D-638D04DC233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"/>
          <p:cNvSpPr/>
          <p:nvPr/>
        </p:nvSpPr>
        <p:spPr>
          <a:xfrm>
            <a:off x="179280" y="360360"/>
            <a:ext cx="9720360" cy="16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NSimSun"/>
              </a:rPr>
              <a:t>«Возможно ли создать мини — сад в домашних условиях?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7105680" y="725400"/>
            <a:ext cx="2427120" cy="4310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"/>
          <p:cNvPicPr/>
          <p:nvPr/>
        </p:nvPicPr>
        <p:blipFill>
          <a:blip r:embed="rId2"/>
          <a:stretch/>
        </p:blipFill>
        <p:spPr>
          <a:xfrm>
            <a:off x="720720" y="1800360"/>
            <a:ext cx="594036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724F96-CC5C-442B-9CCF-BBA99670007D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0D0C54-6141-4124-BA94-FD77FE7FB78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1"/>
          <p:cNvSpPr/>
          <p:nvPr/>
        </p:nvSpPr>
        <p:spPr>
          <a:xfrm>
            <a:off x="179280" y="900000"/>
            <a:ext cx="953928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just">
              <a:lnSpc>
                <a:spcPct val="93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NSimSun"/>
              </a:rPr>
              <a:t>Флорариум — это прозрачная ёмкость из стекла или пластика закрытого, частично закрытого или открытого типа, в которую помещаются раст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NSimSun"/>
              </a:rPr>
              <a:t>Можно создавать в стеклянном сосуде настоящие природные зоны в миниатюре: горы, пустыни, тропики, море или частичку дремучего лес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NSimSun"/>
              </a:rPr>
              <a:t>По сути, флорариум — это тот же аквариум, но, вместо воды и рыбок, в него заполняют камни, песок, различные элементы для декора и растения маленького размер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5A71A4-6664-41DD-B216-E7538A1CA15D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88547C-936B-4450-B038-5D3F62B204B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"/>
          <p:cNvSpPr/>
          <p:nvPr/>
        </p:nvSpPr>
        <p:spPr>
          <a:xfrm>
            <a:off x="179280" y="720720"/>
            <a:ext cx="9720360" cy="42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9000"/>
          </a:bodyPr>
          <a:p>
            <a:pPr algn="just"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лорариумы бывают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закрытым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мкость плотно закрывается крышкой или дверц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открытым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 них есть отверстие в верхней части или сбок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ростым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х еще называют мини-флорариумами. Они отличаются простотой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композиции, небольшим объемом емкости и количеством растений (1-3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сложным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ни имитируют кусочек леса, пустыни, гор, джунглей, сада, мор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одвесным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х подвешивают с помощью крючков и веревк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настенным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ни напоминают «живые» картины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настольным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Они размещаются на горизонтальной поверхности (на столе, тумбочке, подоконнике, полке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напольным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ми обычно декорируют общественные места: рестораны, торговые центры, салоны, отел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DD9B8A-38E5-4744-BE52-18E92FE1E981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B9D8AE-D4C8-4DE2-91CC-F84873FDEFA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"/>
          <p:cNvSpPr/>
          <p:nvPr/>
        </p:nvSpPr>
        <p:spPr>
          <a:xfrm>
            <a:off x="179280" y="900000"/>
            <a:ext cx="9720360" cy="40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9000"/>
          </a:bodyPr>
          <a:p>
            <a:pPr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Для самостоятельного изготовления флорариума Вам понадобится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- прозрачная емкость (стеклянная или пластиковая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- земл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- песок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- растение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- декоративные элементы. Это могут быть мхи, цветное стекло, камни, ракушки, различные фигурки, природные материалы (веточки, сухоцветы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FCA011-85A9-4EF3-AD1D-CDA773FC6932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7D0862-65B0-4893-BCC4-40EF89DDAE5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1"/>
          <p:cNvSpPr/>
          <p:nvPr/>
        </p:nvSpPr>
        <p:spPr>
          <a:xfrm>
            <a:off x="179280" y="720720"/>
            <a:ext cx="972036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Советы по уходу за мини — садом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- не оставляйте флорариум под прямыми солнечными лучам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- регулярно очищайте растения от пожухлых листьев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- не перебарщивайте с поливом, можно опрыскивать растение при помощи пульверизатор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- почву нужно менять каждые 2-3 год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- если растение чрезмерно подросло нужно его обновить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FF8CDC-7617-4621-B2C2-1B08F25C1911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7D2147-FC81-4753-BFDB-77E97990E35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"/>
          <p:cNvSpPr/>
          <p:nvPr/>
        </p:nvSpPr>
        <p:spPr>
          <a:xfrm>
            <a:off x="0" y="6480"/>
            <a:ext cx="100807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Для создания флорариума «В гостях у моря!» я выбрала прозрачную стеклянную емкость, геометрической формы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1440000" y="720720"/>
            <a:ext cx="2700360" cy="43196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"/>
          <p:cNvPicPr/>
          <p:nvPr/>
        </p:nvPicPr>
        <p:blipFill>
          <a:blip r:embed="rId2"/>
          <a:stretch/>
        </p:blipFill>
        <p:spPr>
          <a:xfrm>
            <a:off x="5219640" y="720720"/>
            <a:ext cx="4319640" cy="431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1-26T13:05:50Z</dcterms:created>
  <dc:creator/>
  <dc:description/>
  <dc:language>en-US</dc:language>
  <cp:lastModifiedBy>Админ</cp:lastModifiedBy>
  <dcterms:modified xsi:type="dcterms:W3CDTF">2024-01-30T07:51:48Z</dcterms:modified>
  <cp:revision>13</cp:revision>
  <dc:subject/>
  <dc:title>Blue Curve</dc:title>
</cp:coreProperties>
</file>