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move the slide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224DA-3E79-4816-B497-72549E1703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22F03-AA34-4785-8558-9841027BE21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B3509-A137-441B-B466-3D9BB45FBD4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E96C1-8CC8-4A70-8CDA-78C7FBA61A0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3F00D-7162-4127-90CE-77AC083F0F4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FF0D-E6A3-44DF-9207-2996914784E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9C4E4-3402-438B-8F58-1397D13FB19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01BC-B672-4C82-843D-DD087867B96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F38E7-7C57-4ECF-8A3F-98522BE023A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7FA1-EBE4-4575-9FD6-9F821DEE994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4707-ACBC-4BC4-9F17-2BD6527E9D1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0C78B-552A-49A6-91E5-6BAF0BEBB23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CE22-E186-42F7-B52D-D85FC78476C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DEBC-E6DC-40DC-97F7-83053E48BDA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4ED2E-C600-4BF2-A709-DCC3F3036D2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EA438-5F99-43B0-86C9-32C63EDE842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0080" cy="400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58B-D947-42AC-B99E-5CF98A1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A97-75C3-449B-9882-D24F9745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F15-6BA7-4A36-A385-A51CD9CA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056-5845-473F-9B89-BF7DB9D8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000F-FD80-4232-834C-755DDA6F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E120-5C39-49EB-8350-9BC3D122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CD76-3724-4F89-8F4B-B0BFA83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A602-126F-4E8D-9CBF-82F131A4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727A-6A1E-46FD-934F-4B38798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078E-9A4E-4CEE-9BB8-C78E1B6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D79-1186-4581-9636-E49706E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F96-E829-48F0-9201-A942DFB0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93AE-84A7-4802-88C5-939F2BE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EED-EA5E-4863-AE1B-CEB4410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979E-E0C5-4891-BB4F-F236E69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B37-8A64-4D8B-80BB-DA303C3A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2296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6280" y="107964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000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2296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6280" y="2958120"/>
            <a:ext cx="30121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AE8-37FE-4CCC-B567-7CD7C54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DA1-9127-4BD0-86D9-AB96519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2D8-9986-40E6-BB79-ACC9571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F9D-E373-4BA0-ADE3-EF054C4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0000" y="179280"/>
            <a:ext cx="935532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E3D-C670-4481-BC84-460FEFD9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87D-C1A8-472E-A51E-FCCC583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760" y="295812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5D0-5C8D-41A6-AB3A-7A3138D4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079640"/>
            <a:ext cx="456516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000" y="2958120"/>
            <a:ext cx="9355320" cy="17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C7C-79BF-4976-841E-63E5A9F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H="1" flipV="1">
            <a:off x="0" y="4500720"/>
            <a:ext cx="10080720" cy="1170000"/>
          </a:xfrm>
          <a:prstGeom prst="flowChartDocumen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618920"/>
            <a:ext cx="8994600" cy="10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dd41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0000" y="2879280"/>
            <a:ext cx="935532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49000"/>
          </a:bodyPr>
          <a:p>
            <a:pPr marL="16776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167760" indent="-16776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27DC4-6040-4BAD-967C-4730635A57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0" y="0"/>
            <a:ext cx="10077480" cy="72072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" y="5040360"/>
            <a:ext cx="10077480" cy="631800"/>
          </a:xfrm>
          <a:prstGeom prst="rect">
            <a:avLst/>
          </a:prstGeom>
          <a:gradFill rotWithShape="0">
            <a:gsLst>
              <a:gs pos="0">
                <a:srgbClr val="009bdd"/>
              </a:gs>
              <a:gs pos="100000">
                <a:srgbClr val="77caee"/>
              </a:gs>
            </a:gsLst>
            <a:lin ang="0"/>
          </a:gradFill>
          <a:ln w="0">
            <a:noFill/>
          </a:ln>
          <a:effectLst>
            <a:outerShdw dist="10800" dir="5400000" blurRad="0" rotWithShape="0">
              <a:srgbClr val="009b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179280"/>
            <a:ext cx="935532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000" y="1079640"/>
            <a:ext cx="935532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00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9bd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bd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6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19280" y="5219640"/>
            <a:ext cx="32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38000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B7F9-5A0A-40AD-BE3C-93E52507BA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618920"/>
            <a:ext cx="77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d4100"/>
                </a:solidFill>
                <a:latin typeface="Times New Roman"/>
              </a:rPr>
              <a:t>«Флорариум — мини — сад!»</a:t>
            </a:r>
            <a:endParaRPr b="0" lang="en-US" sz="4000" spc="-1" strike="noStrike">
              <a:solidFill>
                <a:srgbClr val="dd41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7199280" y="3419640"/>
            <a:ext cx="27003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 fontScale="83000"/>
          </a:bodyPr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3 «В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а Вар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7232B-56F5-471D-873A-9C679AA040F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7D05-8E7F-41B8-865F-28D07A7519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0" y="0"/>
            <a:ext cx="1008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Примерно 1 см. заполнила слоем земли, утрамбовала руками. При помощи толстой кисточки смахнула пыль и частички земли со стекол ем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82480" y="720720"/>
            <a:ext cx="2478240" cy="431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3687840" y="720720"/>
            <a:ext cx="2611440" cy="43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7020000" y="720720"/>
            <a:ext cx="25192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0FBB2-07CC-41E0-A7BF-9104A30223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3AB74-23EC-4820-9E02-BAAE0BE47A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539640" y="179280"/>
            <a:ext cx="918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Затем поочередно засыпала в емкость песок белого и голубого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157880" y="720720"/>
            <a:ext cx="2562480" cy="431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539640" y="720720"/>
            <a:ext cx="2578320" cy="43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3780000" y="720720"/>
            <a:ext cx="2700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C435F-3C45-49C4-A75C-D775313C76B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0E10A-5AB5-4468-9BBB-8BCA3E6D19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0" y="0"/>
            <a:ext cx="100807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NSimSun"/>
              </a:rPr>
              <a:t>Следующим этапом, я заполнила наш мини — сад остатками земли, оставив, примерно 2 см. от края емкости, чтобы дополнить украшением нашу композицию. Проделала небольшое отверстие ложкой в земле для нашего растения. Стряхнула лишнюю землю с корня кактуса и аккуратно посадила в заготовленное отверст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6360" y="720720"/>
            <a:ext cx="230364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51928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040360" y="720720"/>
            <a:ext cx="23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7574040" y="720720"/>
            <a:ext cx="25066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93583-D949-420C-9F89-F335E4912A1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C2C1C-A68C-4459-AB3B-252862C973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0" y="0"/>
            <a:ext cx="1008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Далее поверхность земли еще раз присыпала декоративным цветным песк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выложила ракушки, мох. Таким образом, я создавала берег мор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78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7020000" y="720720"/>
            <a:ext cx="25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539640" y="720720"/>
            <a:ext cx="25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61537-C774-43CA-8C94-B108F1C3DCF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F93B-5807-45CD-B3EA-945DB384E1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0" y="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 меня получился свой собственный оригинальный кусочек живой природ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не кажется, что каждый, кто увидит этот растительный мир, непременно захочет сделать такое же чуд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419640" y="720720"/>
            <a:ext cx="3419280" cy="431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79280" y="720720"/>
            <a:ext cx="288000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199280" y="720720"/>
            <a:ext cx="27003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95BDD-69D6-4D38-A1C8-D98BD0FC10B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09D0-3DC0-4A1E-B8F0-EC4F878CDC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79280" y="539640"/>
            <a:ext cx="953928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своей работе я хотела создать максимально комфортные условия для растения и красивую композицию, для того чтобы украсить интерьер моей комнаты. В итоге получился кусочек морского берега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Глядя на свой мини - сад, я вспоминаю семейное путешеств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Цель проекта достигнута. Гипотеза доказан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В домашних условиях можно создать прекрасный мини — са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пасибо за внимани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DCE53-3FB6-4B37-9CA4-78B85881153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A69E8-F252-4DB4-8C96-EFF597E7FB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179280" y="0"/>
            <a:ext cx="5580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640" bIns="45000" anchor="t">
            <a:normAutofit/>
          </a:bodyPr>
          <a:p>
            <a:pPr>
              <a:lnSpc>
                <a:spcPct val="93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ктуаль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Каждый из нас любит цветы. Многие выращивают их дома. Зачастую, цветы требуют тщательный уход. В настоящее время люди создают флорариумы, чтобы посадить растение и при этом не прилагать больших усилий для ухода за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 (мини - сад) – композиция из маленьких растений, камней, песка, искусственного декора, помещенной в прозрачную емкость (из стекла или пласт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 и наблюдение за мини - садом интересен и взрослым, и детям. При его создании можно проявить неограниченную фантазию. Именно поэтому меня заинтересовала эта 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759280" y="736560"/>
            <a:ext cx="43196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B474-D87B-405D-881D-1E44E5596F4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6974B-4B36-4EDF-A06F-E5DD103AB8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720720" y="720720"/>
            <a:ext cx="89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флорариума и освоение техники создания композиций для мини - са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ю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особенности создания композиций для мини - сад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ть флорариум «В гостях у моря!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и-сад в домашних услови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лорариу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й продук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тый флорариум «В гостях у моря!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омашних условиях возможно создать мини-с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, наблюдение, интервью, экспери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C19BF-DBF8-43BC-8B8E-77946FDD2C5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8D71A-61D2-4E82-B9FE-81C46BCBFF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179280" y="360360"/>
            <a:ext cx="97203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NSimSun"/>
              </a:rPr>
              <a:t>«Возможно ли создать мини — сад в домашних условиях?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7105680" y="725400"/>
            <a:ext cx="2427120" cy="431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4BA2-58FB-4B32-9A22-2DFB2A80D1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F52E-1854-4580-BFE4-305A41D0B2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179280" y="900000"/>
            <a:ext cx="953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Флорариум — это прозрачная ёмкость из стекла или пластика закрытого, частично закрытого или открытого типа, в которую помещаются раст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Можно создавать в стеклянном сосуде настоящие природные зоны в миниатюре: горы, пустыни, тропики, море или частичку дремучего ле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SimSun"/>
              </a:rPr>
              <a:t>По сути, флорариум — это тот же аквариум, но, вместо воды и рыбок, в него заполняют камни, песок, различные элементы для декора и растения маленького раз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E7119-8498-4696-9F54-829266C0356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9BD66-D7AA-463E-A115-B9F3737F6C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179280" y="720720"/>
            <a:ext cx="97203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just"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орариумы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мкость плотно закрывается крышкой или двер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их есть отверстие в верхней части или сб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еще называют мини-флорариумами. Они отличаются простот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позиции, небольшим объемом емкости и количеством растений (1-3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имитируют кусочек леса, пустыни, гор, джунглей, сада, мор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вес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х подвешивают с помощью крючков и вере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и напоминают «живые» картин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сто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ни размещаются на горизонтальной поверхности (на столе, тумбочке, подоконнике, полк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оль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обычно декорируют общественные места: рестораны, торговые центры, салоны, от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A239-85C3-470C-8193-B2864668CA8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4DE4D-44DF-4E60-A406-E88471160D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179280" y="900000"/>
            <a:ext cx="972036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амостоятельного изготовления флорариума Вам понадобится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розрачная емкость (стеклянная или пластиковая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зем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ес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аст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декоративные элементы. Это могут быть мхи, цветное стекло, камни, ракушки, различные фигурки, природные материалы (веточки, сухоцветы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7B24-3CF3-46C2-8C22-156C39FB6D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983E8-CAA1-4A36-A5D4-A948F0AC30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79280" y="720720"/>
            <a:ext cx="972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Советы по уходу за мини — садом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оставляйте флорариум под прямыми солнечными лу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регулярно очищайте растения от пожухлых листь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не перебарщивайте с поливом, можно опрыскивать растение при помощи пульверизат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почву нужно менять каждые 2-3 го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- если растение чрезмерно подросло нужно его обнови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Дата 1"/>
          <p:cNvSpPr/>
          <p:nvPr/>
        </p:nvSpPr>
        <p:spPr>
          <a:xfrm>
            <a:off x="36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BF573-EDD6-4858-8D9E-A0479AE3875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380360" y="5219640"/>
            <a:ext cx="23353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DEB38-E7FD-4B98-8C06-75B645465D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0" y="6480"/>
            <a:ext cx="10080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NSimSun"/>
              </a:rPr>
              <a:t>Для создания флорариума «В гостях у моря!» я выбрала прозрачную стеклянную емкость, геометрической фор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19640" y="720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6T13:05:50Z</dcterms:created>
  <dc:creator/>
  <dc:description/>
  <dc:language>en-US</dc:language>
  <cp:lastModifiedBy>Админ</cp:lastModifiedBy>
  <dcterms:modified xsi:type="dcterms:W3CDTF">2024-01-30T07:51:48Z</dcterms:modified>
  <cp:revision>13</cp:revision>
  <dc:subject/>
  <dc:title>Blue Curve</dc:title>
</cp:coreProperties>
</file>