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dd4100"/>
                </a:solidFill>
                <a:latin typeface="Arial"/>
              </a:rPr>
              <a:t>Click to move the slide</a:t>
            </a:r>
            <a:endParaRPr b="0" lang="en-US" sz="3300" spc="-1" strike="noStrike">
              <a:solidFill>
                <a:srgbClr val="dd41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3F3B0-B53B-438D-B9D2-1091A0C0F04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CC6410-2940-4B31-BB88-DDB033CDEA9D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17FF8-0588-4FC2-80E9-C8EEAC837F92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2371A-A1AD-4703-A640-B110227510E4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E01A1-5BB1-4A39-8C55-6248A9C96BED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BC70E-AE8E-4883-8CB7-993771ACA106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0214E-6F0B-4526-98EB-163696357CF3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08C63-96FD-468D-92D3-FDE42B986E31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DE603-1C67-419C-B7D0-FB886AC4DA96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AE864-4170-4EA6-8E5B-88D2A3340ECB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94B0F-75D6-4E42-825E-10E53B9D1F5B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DC1A6-33C0-4767-8D37-4DDDC7D4AAE5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17179-0C82-4323-BD9B-B6C1D947AFAF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09422-904D-44C1-918C-9B2B84537DC2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49375-AEDA-49A5-9214-19CE5A3DF07A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AABBD-71C4-4CEF-83A6-810FA5991C30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FA60-C4C6-433B-9F11-7BAE931EF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B9DF-FFE8-463F-B72E-331FB5C6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24DB-8040-46E7-8827-8902665CB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296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628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000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296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628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0325-21D0-41DB-83F4-97B62B12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159F-DE6C-42AC-88BE-9EADA38E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B808-3F94-4A82-878A-4FD7C049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E8B6-371A-4077-AD61-A3ACEB5E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B6F5-74E0-47FC-A21F-6C61E23A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A2D7-5BAC-4E1C-B682-6A0A67AA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60000" y="179280"/>
            <a:ext cx="935532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3A0B-992A-4C4B-97CA-FD67B478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8652-242E-4896-BA0D-1A4466C8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AE5F-8CAA-4184-9D08-1A36C5BF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C225-E222-4392-B84A-E1FB8B70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5008-DB02-4A81-95E0-73CC3E06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E4CB-D831-497A-88DA-CBE8180F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1F52-8676-4F02-B3CB-11C118DE7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2296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628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6000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2296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8628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BBEC-6315-45E7-AFFE-8170F0284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EB5C-14CC-4093-AB65-27882C7C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881E-D214-44AD-84FC-9D48BB30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4C30-F52A-4A19-88A5-5A25AF1F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0000" y="179280"/>
            <a:ext cx="935532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53DF-544A-4991-AE04-9A46BAB4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51AC-01FE-432E-A17E-E6713AF3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DAEC-5476-48A8-83F9-EDC7B5C1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FA93-5BC7-4057-8FA6-D2FA051A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 flipH="1" flipV="1">
            <a:off x="0" y="4500720"/>
            <a:ext cx="10080720" cy="1170000"/>
          </a:xfrm>
          <a:prstGeom prst="flowChartDocument">
            <a:avLst/>
          </a:prstGeom>
          <a:gradFill rotWithShape="0">
            <a:gsLst>
              <a:gs pos="0">
                <a:srgbClr val="009bdd"/>
              </a:gs>
              <a:gs pos="100000">
                <a:srgbClr val="77caee"/>
              </a:gs>
            </a:gsLst>
            <a:lin ang="0"/>
          </a:gradFill>
          <a:ln w="0">
            <a:noFill/>
          </a:ln>
          <a:effectLst>
            <a:outerShdw dist="10800" dir="5400000" blurRad="0" rotWithShape="0">
              <a:srgbClr val="009b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1618920"/>
            <a:ext cx="899460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dd41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dd41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0000" y="2879280"/>
            <a:ext cx="9355320" cy="1614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49000"/>
          </a:bodyPr>
          <a:p>
            <a:pPr marL="16776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1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2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3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4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5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6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6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19280" y="5219640"/>
            <a:ext cx="32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8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B964E-B3D5-469B-9D74-8265F93A44F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0" y="0"/>
            <a:ext cx="10077480" cy="720720"/>
          </a:xfrm>
          <a:prstGeom prst="rect">
            <a:avLst/>
          </a:prstGeom>
          <a:gradFill rotWithShape="0">
            <a:gsLst>
              <a:gs pos="0">
                <a:srgbClr val="009bdd"/>
              </a:gs>
              <a:gs pos="100000">
                <a:srgbClr val="77caee"/>
              </a:gs>
            </a:gsLst>
            <a:lin ang="0"/>
          </a:gradFill>
          <a:ln w="0">
            <a:noFill/>
          </a:ln>
          <a:effectLst>
            <a:outerShdw dist="10800" dir="5400000" blurRad="0" rotWithShape="0">
              <a:srgbClr val="009b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3240" y="5040360"/>
            <a:ext cx="10077480" cy="631800"/>
          </a:xfrm>
          <a:prstGeom prst="rect">
            <a:avLst/>
          </a:prstGeom>
          <a:gradFill rotWithShape="0">
            <a:gsLst>
              <a:gs pos="0">
                <a:srgbClr val="009bdd"/>
              </a:gs>
              <a:gs pos="100000">
                <a:srgbClr val="77caee"/>
              </a:gs>
            </a:gsLst>
            <a:lin ang="0"/>
          </a:gradFill>
          <a:ln w="0">
            <a:noFill/>
          </a:ln>
          <a:effectLst>
            <a:outerShdw dist="10800" dir="5400000" blurRad="0" rotWithShape="0">
              <a:srgbClr val="009b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6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419280" y="5219640"/>
            <a:ext cx="32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38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E6FD8-267B-43DB-9A3F-442E037E691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0360" y="1618920"/>
            <a:ext cx="77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dd4100"/>
                </a:solidFill>
                <a:latin typeface="Times New Roman"/>
              </a:rPr>
              <a:t>«Флорариум — мини — сад!»</a:t>
            </a:r>
            <a:endParaRPr b="0" lang="en-US" sz="4000" spc="-1" strike="noStrike">
              <a:solidFill>
                <a:srgbClr val="dd41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7199280" y="3419640"/>
            <a:ext cx="270036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 fontScale="83000"/>
          </a:bodyPr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ца 3 «В»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ова Варва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FFBDD-9328-4C3B-BAC7-EDEADA6A6BA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21FE9-2CD7-4C45-B12F-9E9F0D5E2FA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0" y="0"/>
            <a:ext cx="10080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Примерно 1 см. заполнила слоем земли, утрамбовала руками. При помощи толстой кисточки смахнула пыль и частички земли со стекол емк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82480" y="720720"/>
            <a:ext cx="2478240" cy="4319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3687840" y="720720"/>
            <a:ext cx="2611440" cy="4319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3"/>
          <a:stretch/>
        </p:blipFill>
        <p:spPr>
          <a:xfrm>
            <a:off x="7020000" y="720720"/>
            <a:ext cx="2519280" cy="428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4F4F9-CA7E-4B0F-96BA-387BC08166B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83FA0-8156-4DAF-9A50-98DD44C7733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539640" y="179280"/>
            <a:ext cx="9180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Затем поочередно засыпала в емкость песок белого и голубого цве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7157880" y="720720"/>
            <a:ext cx="2562480" cy="4319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539640" y="720720"/>
            <a:ext cx="2578320" cy="4319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3780000" y="720720"/>
            <a:ext cx="270000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2D2B5-9CB9-491A-A83C-2D4BF2AC5A5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00341-F396-4901-829E-E05695C7B2B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0" y="0"/>
            <a:ext cx="100807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NSimSun"/>
              </a:rPr>
              <a:t>Следующим этапом, я заполнила наш мини — сад остатками земли, оставив, примерно 2 см. от края емкости, чтобы дополнить украшением нашу композицию. Проделала небольшое отверстие ложкой в земле для нашего растения. Стряхнула лишнюю землю с корня кактуса и аккуратно посадила в заготовленное отверст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36360" y="720720"/>
            <a:ext cx="2303640" cy="4319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2519280" y="720720"/>
            <a:ext cx="2340000" cy="4319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3"/>
          <a:stretch/>
        </p:blipFill>
        <p:spPr>
          <a:xfrm>
            <a:off x="5040360" y="720720"/>
            <a:ext cx="2340000" cy="4319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4"/>
          <a:stretch/>
        </p:blipFill>
        <p:spPr>
          <a:xfrm>
            <a:off x="7574040" y="720720"/>
            <a:ext cx="250668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FBF35-9A87-4B38-9E3E-EFA807A1E23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45A63-BEAA-4655-8D89-EE4EF4113E7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0" y="0"/>
            <a:ext cx="100807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Далее поверхность земли еще раз присыпала декоративным цветным песко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выложила ракушки, мох. Таким образом, я создавала берег мор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780000" y="720720"/>
            <a:ext cx="2519280" cy="4319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7020000" y="720720"/>
            <a:ext cx="2519280" cy="4319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3"/>
          <a:stretch/>
        </p:blipFill>
        <p:spPr>
          <a:xfrm>
            <a:off x="539640" y="720720"/>
            <a:ext cx="25196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14B98-6E76-4335-904A-965B9B74FE2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6CDD4-0508-4CD1-8FC0-16C939D84A9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0" y="0"/>
            <a:ext cx="1008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 меня получился свой собственный оригинальный кусочек живой природы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не кажется, что каждый, кто увидит этот растительный мир, непременно захочет сделать такое же чудо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3419640" y="720720"/>
            <a:ext cx="3419280" cy="4319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179280" y="720720"/>
            <a:ext cx="2880000" cy="4319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7199280" y="720720"/>
            <a:ext cx="270036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4E9D4-CD99-4C9B-9FEF-844F2B72292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32C23-E8C4-4A71-9BE2-4EC04A247F6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179280" y="539640"/>
            <a:ext cx="9539280" cy="47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В своей работе я хотела создать максимально комфортные условия для растения и красивую композицию, для того чтобы украсить интерьер моей комнаты. В итоге получился кусочек морского берега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Глядя на свой мини - сад, я вспоминаю семейное путешестви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Цель проекта достигнута. Гипотеза доказан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В домашних условиях можно создать прекрасный мини — сад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Спасибо за внимание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0B36E-0C33-45B6-9000-82445EC37E4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2A541-F888-4659-A4FF-316B75CA0E7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179280" y="0"/>
            <a:ext cx="5580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t">
            <a:normAutofit/>
          </a:bodyPr>
          <a:p>
            <a:pPr>
              <a:lnSpc>
                <a:spcPct val="93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ктуальность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Каждый из нас любит цветы. Многие выращивают их дома. Зачастую, цветы требуют тщательный уход. В настоящее время люди создают флорариумы, чтобы посадить растение и при этом не прилагать больших усилий для ухода за н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лорариум (мини - сад) – композиция из маленьких растений, камней, песка, искусственного декора, помещенной в прозрачную емкость (из стекла или пластик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ход и наблюдение за мини - садом интересен и взрослым, и детям. При его создании можно проявить неограниченную фантазию. Именно поэтому меня заинтересовала эта те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5759280" y="736560"/>
            <a:ext cx="4319640" cy="43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86BBD-5617-4572-9786-BE4CD504494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F71B3-C77D-4DC3-98CE-3DDB7A8D4EE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720720" y="720720"/>
            <a:ext cx="899964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здание флорариума и освоение техники создания композиций для мини - са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учить информацию по теме исслед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зучить особенности создания композиций для мини - сад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здать флорариум «В гостях у моря!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ни-сад в домашних условия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лорариу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ый продук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крытый флорариум «В гостях у моря!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домашних условиях возможно создать мини-са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сследования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литературы, наблюдение, интервью, эксперимен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65297-6BB8-447D-9D1A-B7BC930F2D7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0829C-2E00-4B2D-9899-52A318CEF5C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179280" y="360360"/>
            <a:ext cx="972036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«Возможно ли создать мини — сад в домашних условиях?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7105680" y="725400"/>
            <a:ext cx="2427120" cy="4310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720720" y="1800360"/>
            <a:ext cx="59403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DC57A-0402-43E8-BF17-2CDB7A58C98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A06A7-5D47-48D0-8598-A0FB0843C4F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179280" y="900000"/>
            <a:ext cx="953928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NSimSun"/>
              </a:rPr>
              <a:t>Флорариум — это прозрачная ёмкость из стекла или пластика закрытого, частично закрытого или открытого типа, в которую помещаются раст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NSimSun"/>
              </a:rPr>
              <a:t>Можно создавать в стеклянном сосуде настоящие природные зоны в миниатюре: горы, пустыни, тропики, море или частичку дремучего лес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NSimSun"/>
              </a:rPr>
              <a:t>По сути, флорариум — это тот же аквариум, но, вместо воды и рыбок, в него заполняют камни, песок, различные элементы для декора и растения маленького разме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682E9-36DF-44B1-8761-C0ECFF687FB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A2339-8D08-452D-88B6-886945C6837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179280" y="720720"/>
            <a:ext cx="972036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 algn="just"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лорариумы бываю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крыт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мкость плотно закрывается крышкой или дверц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ткрыт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них есть отверстие в верхней части или сбок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ост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х еще называют мини-флорариумами. Они отличаются простото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композиции, небольшим объемом емкости и количеством растений (1-3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лож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и имитируют кусочек леса, пустыни, гор, джунглей, сада, мор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двес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х подвешивают с помощью крючков и верев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ст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и напоминают «живые» картины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стольны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Они размещаются на горизонтальной поверхности (на столе, тумбочке, подоконнике, полке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поль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и обычно декорируют общественные места: рестораны, торговые центры, салоны, оте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23BC1-9BE4-44A6-9E0E-E7F9A446C20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C2899-4056-4FF9-A05D-A6691327683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179280" y="900000"/>
            <a:ext cx="972036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Для самостоятельного изготовления флорариума Вам понадобится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прозрачная емкость (стеклянная или пластиковая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земл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песок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растен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декоративные элементы. Это могут быть мхи, цветное стекло, камни, ракушки, различные фигурки, природные материалы (веточки, сухоцветы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D9FC4-D177-4774-8679-B0537C1B790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34911A-CED6-450E-900C-A3F13F1F7B8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179280" y="720720"/>
            <a:ext cx="9720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Советы по уходу за мини — садом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не оставляйте флорариум под прямыми солнечными лучам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регулярно очищайте растения от пожухлых листьев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не перебарщивайте с поливом, можно опрыскивать растение при помощи пульверизатор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почву нужно менять каждые 2-3 год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если растение чрезмерно подросло нужно его обновит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21ACB-9C46-4A70-ADF2-CF170DFFFA0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6F0DC-78BF-4919-B38A-22B0FC7F909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0" y="6480"/>
            <a:ext cx="100807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Для создания флорариума «В гостях у моря!» я выбрала прозрачную стеклянную емкость, геометрической форм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440000" y="720720"/>
            <a:ext cx="2700360" cy="4319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5219640" y="720720"/>
            <a:ext cx="43196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26T13:05:50Z</dcterms:created>
  <dc:creator/>
  <dc:description/>
  <dc:language>en-US</dc:language>
  <cp:lastModifiedBy>Админ</cp:lastModifiedBy>
  <dcterms:modified xsi:type="dcterms:W3CDTF">2024-01-30T07:51:48Z</dcterms:modified>
  <cp:revision>13</cp:revision>
  <dc:subject/>
  <dc:title>Blue Curve</dc:title>
</cp:coreProperties>
</file>